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333-A877-4D97-853F-C18E1ACE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0D4-5EC9-4EBA-8B5D-BD0FA1C57F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93B1-7E4F-4E9A-B4B9-E2BF680CAE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856A-2641-4ECF-8EA0-CAE556EA400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E00-E93A-4A04-B440-D4D6FE7CB4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CCF-FA78-4AA8-913A-0F34403AD9F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8659-7D8F-47F3-BB1D-FE55405C47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C73-74B6-4C2E-A2F9-5FE117510D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FD86-8932-4CAA-8D7C-D4F2E61F05D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F241-452F-458D-808E-776A1A60534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D3BA-5F12-4B93-8C72-6D68D9619F0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415-255C-42F3-BCB6-050061758BF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4385-5825-4480-9BC7-1657F6EF7B9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CED-6D49-4CFF-9F2A-F2551D5C222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594-91E2-4627-B1B4-6F9F683F3D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E14F-5F9A-40FB-BB92-95207C4EA3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9E95-BE90-4505-8C91-A1A9DA3ED9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AA9-0568-4B09-A99D-FDE0819851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746-53DE-40AE-9E73-5973A01C76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E7D-2FBC-4463-BF8E-DAD8C389714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B38-2479-4C60-93DA-DFC2DA67DD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2D46-2B97-4EB7-8F3C-CFB1CC1A8F5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28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ТЕРАПИЈА КРВИ И ТКИВ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390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Наташа Ђо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боке венске тромбозе и тромбоембо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терапија (високе д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илакса (LMW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мале доз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рна: хируршка и медиц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ундарна (алтернатива кумарин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мбозе и емболије периферних ар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и коронар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а ангина пекто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хеп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дот: протамин сулфат (базни полипепт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верзибилна, тип 1 (агрегационо деј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шка, тип 2 (антите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ће тромб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пе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еопороза (хронич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ентерални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хибитори тромбина (II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рудин (Hirudo medicina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пирудин, десирудин, бивалиру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мена за хеп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мбоцитопенија изазвана хепа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иопл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бриноли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птокиназа (Strepta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урокин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атори плазмин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кивни активатор плазминогена (t-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ација плазминогена везаног за 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омбнантни хумани проте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теплаза (ActilyseR) - немодификов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теплаза, тенектеплаза - модификовани (дужи Т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стрепл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мани плазминоген и стрептокин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утне тромбоемболије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аркт миок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ућна ембо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хемични мождани инсул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ферна васкуларна о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мбозе великих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асност од крвар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р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не контра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ерфузионе арти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хибитори фибринол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плазмино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догени:инхибитор активатора плазминогена (P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псилон аминокапр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ексамич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плаз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догени: алфа-2 антиплаз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ротинин (Trasyl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 крварења због патолошке фибрино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итамин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тонадион (К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накинон (К2), -дион (К3), -диол (К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ортомбинемија у новорођенч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лијарна опструкција (фисту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апсор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ротромбинемија изазвана ле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озирање оралним антикоагула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грегација тромбо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аген &gt; GPIa/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он Виленбрандов фактор vW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GP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мбин (IIa) &gt; PAR1/PA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бриноген (I) &gt; GPIIb/I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клооксигеназа-1 (COX-1) &gt; TX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D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P2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2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грегациони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енопири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пиридам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атори GPIIb/II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агонисти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тромбин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фактора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ри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нискомолекуларни хепар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ектни инхибитори тр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ндапаринукс (пентасахар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реверзибилна инхбиција CO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TX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ске дозе, 50-320 м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фикасан и јев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ким индикацијама могуће комбинације са дипиридамолом и клопидогр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гућа толеранциј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ком дуге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грегациони леков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пиридамол (Aggrenox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ција фосфодиестер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мулација аденозина (А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имулација аденилил циклазе (цАМ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енопири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клопидин (Ticlodi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опидогрел (Plavix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тори P2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ергизам са аспирином у А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тропенија и тромбоцитопенијска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а и профилакса тромбоемболизма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онар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реброваскул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ферна васкуларна инсуфициј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тернатива оралним антикоагулан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 из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локатори GPIIb/II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интегрин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циксимаб (ReoPr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 хуманизовано моноклонско антитело (Фа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тифибатид - циклични пепт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рофибан (Aggrasta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 непептидни мали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ентна кардиологија: акутни коронарни синдром, уградња с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е, у до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гвожђ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ално: феро сулф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рентерално: гвожђе декстран, гвожђе сук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хипохромна ан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цит гвожђа = (140 х хемоглобин у г/Л)/140 * 470 мг * 5 плус 500 мг (попуна депо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ално: надражај гастроинтестиналног т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рентерално: ал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еритропое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ритропоетин алфа и б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лфа (и.в.), бета (и.в., с.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рбопоетин ал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ужа елиминација, примена једном недељно, супкут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анемије код хроничне инсуфицијенциј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: хипертензија и тромбозе (претерани пораст хематокри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актори раста гранулоцита и макрофага као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илграстим – гранулоц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-C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лграмостин – све крвне ло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M-C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нограстим – гликозилира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-C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опоравак беле крвне лозе после примене цитостатика, инсуфуцијенција костне с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: болови у костима, стање слично грипу, едеми и изливи у плеури и перикар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олна киселина и препарати витамина Б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етрахидрофолна киселина – активни обл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Хидрокси- и цијанокобаламин (Б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едостатак: мегалобластна анем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уникуларна мијелоза (само витамин Б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ект неуралне цеви (фолн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олна киселина, орално 0.5-1 мг (дневне потребе), 0.5-0.8 мг (превенција у трудноћи), 5 мг (терапијска доза, труднице под већим ризи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 Б12, интрамускуларно, 1-2.5 мг (терапијска доза), дневне потребе око 2 мц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ОМЕОСТАЗА ТЕЛЕСНИХ ТЕ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целуларн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ahoma"/>
              </a:rPr>
              <a:t>33%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зма, интерстицијална течност, ликвор, интралуминална течност у цревима, очна водиц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трацелуларна теч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ahoma"/>
              </a:rPr>
              <a:t>6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молар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центрација појединих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рмаколош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нцентрација фармаколошки активних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внотежа између узимања и изл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рацелуларна 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кстрацелуларна те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ханизми хомеос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тидиуретски хор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лдост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омеруларна фил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ални 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кума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рфарин (Far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аценокумарол, фенпроку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инданд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ниндион (рет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тр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бигатран етекси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ибитори фактора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вароксабан, апикс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ФИЦИТ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мањено уношење/повећан губи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еђ, црвена кожа, суве слузнице, тахикардија, олигу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алуцинације, делиријум, хиперпноја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фузија 2,5-5% декст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ИШАК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о уношење/смањено излуч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 (’’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Синдром интоксикације в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’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авобоља, наузеја, повраћање, грчеви у стомаку, ступор, кома, 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граничење унос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узија хипертоних раствора НаЦ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молар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упна количина растворених састој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90 mOsm/k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центрација састој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,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екстрацелулар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НАТР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Губитак воде без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примена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без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докнад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мањење уношења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орсирана диу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ОНАТР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Губитак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ретенциј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уз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Cl (+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,9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-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стрикција унос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КАЛ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држава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прекомерно уноше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абост/парализа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 рад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граничење уноса К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оле за размену кат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сулин, Na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хемодиј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ОКАЛ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но уноше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повећан губитак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абост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и рад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на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инфузији KCl 1-3mмol/kg/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r os KCl 1-3g/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ФАРМАКОЛОШКА 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рацелулар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страцелулар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ahoma"/>
              </a:rPr>
              <a:t>Регу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Плућа 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Пуферски систем: протеини, фосфати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х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ремећаји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цидоза и алкал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СПИРАТОРНА АЦИД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пресија дисањ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хиперкапнија →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рављање д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pH артеријск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СПИРАТОРНА АЛКАЛ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вентил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хипокапн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ксиоли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pH артеријск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мар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синтезе фактора коагулације II, VII, IX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ција епоксид реду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енерација витамин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ада карбоксилације фактор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арбоксиглутам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 антикоагулантни ефекат (пар д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ромбинско време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љашњи пут коаг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љне вредности 2-4 (у зависности од инд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ТАБОЛИЧКА АЦИД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рављ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сновног поремећ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мена 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5[l/kg]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[kg]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(nkb-ikb)[mM/l]=D[m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ТАБОЛИЧКА АЛКАЛ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 К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прекомеран унос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докнад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боке венске тромбозе и плућна ембо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о: комбинација са парентералим антикоагулан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ндарна профилакса: више месе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ријална фибри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илакса тромбоза вештачких валв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кум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е: плазма, витамин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не нек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тромбозе (протеин S и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а нежељена деј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тогено деј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ојне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 пурпурних пал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колошки значај (тровање родентицид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ови орални 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бигатран етекси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фикасан у превенцији дубоке венске тромб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вароксабан и апикс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венција ДВТ у ортопедији и емобилизације код атријалне фибри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дност НОАК: није потребно одређивати протромбинск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 НОАК: крвав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еп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шавина мукополисахарида (гликозаминоглик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акционисани (високомолекуларни) ~15КДа (U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ализатор (активатор) антитромбин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онисани, нискомолекуларни (LM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оксапарин (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lexane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далтепарин (Fragm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надропарин (Fraxipari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лективни инхибитори фактора 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апароид (хепарино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средно (брзо) дејство (интравен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унутрашњег пута коаг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a (тромбин), IXа, Xа, XI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доз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ктивирано парцијално тромбопластинск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T 26 - 33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ст фактора Xа (нискомолекулар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10T18:36:42Z</dcterms:modified>
  <cp:revision>16</cp:revision>
  <dc:subject/>
  <dc:title>Slide 1</dc:title>
</cp:coreProperties>
</file>